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00F-BF21-4322-9839-74277F00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4DF-1F7E-48EE-AD8A-FC933694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E76-F88E-4FDC-9C94-4E7765F3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AAA-75CB-406F-A7B9-EFA1D574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81279-BA31-4100-AC74-DF00BA5C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86DFD-FF75-454D-AB71-43591038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5657-7A76-4242-8BFF-6209C357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F856B-B40E-435A-ACFC-3E6B144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F1BD3-CD6C-40BD-A333-2482010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C7BF7-0116-44D1-855F-E60C33FB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B6B7A-9997-4954-B65C-E1E5E691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45D-C49A-498D-982C-662504B7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C1723-2EED-4FBE-B8F1-CED28EB3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4A3C8-17FB-4D50-9B85-DF7CA1DD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CFD7D-9C57-4CE3-9A6B-6DE4752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1A55-43FF-48D0-A84C-8BBD23C6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D8C67-7EB0-4CEA-81BC-DA6DE561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6DB-8529-4B8E-AD6D-5927B11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ED6-7560-4313-96E8-FDBAE82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C62-C138-4853-9824-0AFB431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13D-E2AE-4ACF-A310-1416C3E3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D32-7FBB-4485-94C4-EAC7C953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217-F1DF-4B20-952E-218DCE7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4C1-3A63-4FE6-BB9E-C8343A1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320C-85AB-4721-A81E-FAF37DCD1F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FB9A-BEF9-4C79-99A9-F298ED41D0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organic compound is found in most cells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34:57Z</dcterms:created>
  <dc:creator>WaiverDay</dc:creator>
  <dc:description/>
  <dc:language>en-US</dc:language>
  <cp:lastModifiedBy>PritchaJ</cp:lastModifiedBy>
  <dcterms:modified xsi:type="dcterms:W3CDTF">2011-06-01T13:53:05Z</dcterms:modified>
  <cp:revision>3</cp:revision>
  <dc:subject/>
  <dc:title>Which organic compound is found in most cells? </dc:title>
</cp:coreProperties>
</file>